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18F-C412-4B1F-8D0D-C9BD46E9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1BC-CA42-4FB7-A9E8-0C7950AF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352-D7B5-46F7-ADA5-38613264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286-8FFD-421E-87D8-C6171F9B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2ECF-9CBA-4533-8E04-C8A07E02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2F78-CA24-47AF-92CF-751470EA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8313-1F31-49EC-BCFA-BB7386C2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3006-965D-431B-B547-070552D7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C23D-4B2C-4563-8840-ED6E8756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7C54-1B68-4B0D-96BA-17422F97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2451-35FC-48F5-B39C-5692D541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1A3-3502-400D-B43D-EC0ECAD7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BD0E-23CD-4917-ADDC-5F2A538C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0188-0F28-4AE0-A3D8-87B30D4F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F9E4-2FE4-49C4-B314-0CDD5954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2BE7-5168-4AA2-8E49-0FB4A75B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A29A-4C4D-4052-9FAD-69D097F7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690-DA20-4404-90A5-46B4F4C6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9FB-7889-41F8-AB48-9F4209C1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D93-BED7-4B4B-9170-E8444EA9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051-3115-4031-9214-80AD4CE1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0D8-6ADF-4C4A-A99C-7DF9A246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5A9-A647-45F6-B27F-8E4F1A88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653-7EE1-48AB-B935-17367A01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7246-1CB7-4A0E-908D-F6284BE704A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3A5F-5E5B-4340-BE1B-FD020A45829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org.rave.org/" TargetMode="External"/><Relationship Id="rId2" Type="http://schemas.openxmlformats.org/officeDocument/2006/relationships/hyperlink" Target="http://borg.rave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About The Lack of </a:t>
            </a:r>
            <a:br>
              <a:rPr sz="4400"/>
            </a:b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ncurrency Control </a:t>
            </a:r>
            <a:br>
              <a:rPr sz="4400"/>
            </a:b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in Distributed Object Syste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361960" y="4343040"/>
            <a:ext cx="6553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458c"/>
                </a:solidFill>
                <a:latin typeface="Tahoma"/>
              </a:rPr>
              <a:t>Werner Van Bell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458c"/>
                </a:solidFill>
                <a:latin typeface="Tahoma"/>
              </a:rPr>
              <a:t>Programming Technology Lab (PROG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458c"/>
                </a:solidFill>
                <a:latin typeface="Tahoma"/>
              </a:rPr>
              <a:t>Departement Computer Science (DINF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458c"/>
                </a:solidFill>
                <a:latin typeface="Tahoma"/>
              </a:rPr>
              <a:t>Vrije Universiteit Brussel (VUB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458c"/>
                </a:solidFill>
                <a:latin typeface="Tahoma"/>
              </a:rPr>
              <a:t>Ws#17/Ecoop 200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Distributed Object Syste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Biggest Problem = Concurrenc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Thread -&gt; Var Acc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Queues -&gt; Order of Messa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Need Some Kind Of Guard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Guarantee no Race Condi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Guarantee no Deadloc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Handle Err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Example: Dining Philosoph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40458c"/>
                </a:solidFill>
                <a:latin typeface="Tahoma"/>
              </a:rPr>
              <a:t>Guard: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If someone takes the left spoon, he will probably also take the righ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Example: Producer Consu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40458c"/>
                </a:solidFill>
                <a:latin typeface="Tahoma"/>
              </a:rPr>
              <a:t>Guar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: only POP one by one when #EL &gt; 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b: only PUSH one by one when #EL &lt; 10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c: push together with pop when #EL &gt;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Example: Vote For Continu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40458c"/>
                </a:solidFill>
                <a:latin typeface="Tahoma"/>
              </a:rPr>
              <a:t>Guar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: JOIN one by one, if not waiting for any VO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b: If client fails start vo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c: If a VOTE timed out fill in TR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Ques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0458c"/>
                </a:solidFill>
                <a:latin typeface="Tahoma"/>
              </a:rPr>
              <a:t>How to write Guards ?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Which primitives do we need 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To be able to </a:t>
            </a:r>
            <a:r>
              <a:rPr b="0" lang="hu-HU" sz="2800" spc="-1" strike="noStrike" u="sng">
                <a:solidFill>
                  <a:srgbClr val="40458c"/>
                </a:solidFill>
                <a:uFillTx/>
                <a:latin typeface="Tahoma"/>
              </a:rPr>
              <a:t>trace/reason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about the control flow of an executing progr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To </a:t>
            </a:r>
            <a:r>
              <a:rPr b="0" lang="hu-HU" sz="2800" spc="-1" strike="noStrike" u="sng">
                <a:solidFill>
                  <a:srgbClr val="40458c"/>
                </a:solidFill>
                <a:uFillTx/>
                <a:latin typeface="Tahoma"/>
              </a:rPr>
              <a:t>handle/guard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the control flow of concurrent proces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ncurrency Primitiv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Jav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CSP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Pi-calcul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cto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How Ab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Transa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Rollbac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Error hand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synchronous Primiti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Reflective Concurrency-manag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The </a:t>
            </a:r>
            <a:r>
              <a:rPr b="1" lang="hu-HU" sz="4400" spc="-1" strike="noStrike">
                <a:solidFill>
                  <a:srgbClr val="660066"/>
                </a:solidFill>
                <a:latin typeface="Tahoma"/>
              </a:rPr>
              <a:t>Borg</a:t>
            </a: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 Mobile Multi Agent Syste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borg.rave.</a:t>
            </a:r>
            <a:r>
              <a:rPr b="0" lang="hu-HU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or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14:33:31Z</dcterms:created>
  <dc:creator>Tőke Pál</dc:creator>
  <dc:description/>
  <dc:language>en-US</dc:language>
  <cp:lastModifiedBy>Tőke Pál</cp:lastModifiedBy>
  <dcterms:modified xsi:type="dcterms:W3CDTF">2001-06-18T14:43:22Z</dcterms:modified>
  <cp:revision>3</cp:revision>
  <dc:subject/>
  <dc:title>About The Lack of  Concurrency Control  in Distributed Object Systems</dc:title>
</cp:coreProperties>
</file>